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D2E-5807-4437-B74D-0A10A4DE5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CE3C-7700-49D2-8F86-2AFF6E01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ware specifications usually mean the software will run but might not result in an optimal user experience. When preparing to run Windows 7, i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best to exceed the processor, RAM, and hard disk space requirements, if pos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AEE-30AF-46E6-ABBE-2014F2B4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3E0-557A-4839-B85C-3BA4E8B9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56F-3CD0-4CEF-AFEC-FA2AB8A0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129E-82F7-4060-8D5C-9AB553C4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C0E-68C7-4D89-8B17-4504259A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FF38-14DA-43A6-8DE2-35FE4ACC6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65BD-63B8-4B92-A759-32213821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142-8048-4281-8C03-411E4FBF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1FD-4FB8-4C30-A2CE-5999BC6B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EB9-7A90-4632-A3AE-5F540EBE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E49D-7E72-4187-ABB8-212306B4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4A3-FF9D-4F89-B8A8-02EF5648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17E-4A83-4057-B2F7-2FD4C629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FAB3-8695-49EB-9D04-5B5E26058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9AF-2202-4477-AC44-4860D6506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65F-4C2B-4123-B3E1-C6F90E7E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B7E-E670-45AC-AF73-F2A50645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821-6550-4F2D-9BA9-EC17CDAC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DF66-6C5A-40AC-8164-210757B9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10DB-9D0D-4780-923B-6FD05ECF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3C2D-E9BC-4636-A295-28A501A6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larger environment, where you have, say, 25 or more computers that require Windows 7 installations, you could use a tool called ImageX to create bootable media. The Windows Automated Installation Kit (AIK) includes Imag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6151-0DB4-44C9-B8A1-ADC40492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 Deployment Services is a server role for Windows Server 2008 or Windows Server 2008 R2. It allows a user to press the F12 key, log on, and select an image for installation. After that, the installation can be autom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you can use an answer file to configure Windows settings during installation. The answer file contains all the settings that are required for an unattended instal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4DC-4DC6-41FE-8F93-E7A03EC0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6A1-315A-4F77-B9C1-8C95C2A0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36AA-34FE-410B-AA6D-34B0FEB3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89C-B3E3-4346-9C68-2CCF4A88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B12-9313-443E-9821-1B324F70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27F-0C8C-4239-9AA1-68F7CE8B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BA5-215D-4027-9500-6CD6BC54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60ED-8FB9-4FE4-8720-32C6E99C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1A07-11DA-4F47-B4C0-0CE6D9A5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5301-A6E4-4C4E-9858-B1A8F62D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944-118A-4C56-862A-822E78CC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D2F-A81F-4F42-8D65-E58F8CA4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544-4F36-4A94-AAAF-A3CD5329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A25-0397-471D-A1F3-3018584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FCB-433E-4ABC-A9ED-88BCA03A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B0C-6CB7-4F44-9F4F-F018F4E8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DC0-122B-4894-B2C6-FFA6729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CEB-B98E-450F-8318-34EFDAB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08F-0CAD-45F6-88EE-8AAD9C8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114-CF78-40D7-BE5D-614C7DEC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24C-1A50-42D2-B470-89C29E2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127-10FB-411E-A845-5CEFD57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F17-FC39-409B-8D9C-B754EA3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08E-9131-4289-90C3-FB91CEF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33440"/>
            <a:ext cx="8315280" cy="6040440"/>
            <a:chOff x="414360" y="433440"/>
            <a:chExt cx="8315280" cy="604044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33440"/>
              <a:ext cx="8315280" cy="60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5760" y="473040"/>
              <a:ext cx="8232480" cy="59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75C9-EFA3-4474-AC99-25F2F8EE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/en/details.aspx?id=2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6"/>
          <p:cNvSpPr/>
          <p:nvPr/>
        </p:nvSpPr>
        <p:spPr>
          <a:xfrm>
            <a:off x="304920" y="1452600"/>
            <a:ext cx="8532720" cy="304308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414360" y="1523880"/>
            <a:ext cx="8315280" cy="2895840"/>
            <a:chOff x="414360" y="1523880"/>
            <a:chExt cx="8315280" cy="2895840"/>
          </a:xfrm>
        </p:grpSpPr>
        <p:pic>
          <p:nvPicPr>
            <p:cNvPr id="55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15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6680" y="1546200"/>
              <a:ext cx="827064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25520"/>
            <a:ext cx="853452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Franklin Gothic Medium"/>
              </a:rPr>
              <a:t>Introducing, Installing, and</a:t>
            </a:r>
            <a:br>
              <a:rPr sz="3400"/>
            </a:br>
            <a:r>
              <a:rPr b="0" lang="en-US" sz="3400" spc="-1" strike="noStrike">
                <a:solidFill>
                  <a:srgbClr val="0000cc"/>
                </a:solidFill>
                <a:latin typeface="Franklin Gothic Medium"/>
              </a:rPr>
              <a:t>Upgrading Windows 7</a:t>
            </a:r>
            <a:endParaRPr b="0" lang="en-US" sz="34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rm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33520" y="1747800"/>
            <a:ext cx="7995960" cy="4043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2219400" y="3746520"/>
            <a:ext cx="2886120" cy="306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Requirement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 gigahertz (GHz) or faster 32-bit (x86) or 64-bit (x64) process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 gigabyte (GB) RAM (32-bit) or 2 GB RAM (64-bit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 GB available hard disk space (32-bit) or 20 GB (64-bit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DirectX 9 graphics device with Windows Display Driver Model (WDDM) 1.0 or higher driv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dditional memory and advanced graphics hardware for video playback, depending on the resolution required or desire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graphics card compatible with DirectX 10 or higher for certain games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TV tuner and additional hardware for some Windows Media Center functiona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pecific hardware for Windows Touch and Tablet PC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network and PCs running Windows 7 for HomeGroup utiliz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compatible optical drive to burn DVDs/CD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rusted Platform Module (TPM) 1.2 for BitLock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universal serial bus (USB) flash drive for BitLocker To G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additional 1 GB of RAM and an additional 15 GB of available hard disk space for Windows XP Mo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udio output for music and soun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Upgrade pa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set of options for upgrading from one Windows operating system to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Upgrade install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retains files, settings,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lso called an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in-place install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Custom install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overwrites files, settings,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lso called a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clean install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Upgrade Paths for Home Premium, Professional, and Ultimat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1752480"/>
          <a:ext cx="7238880" cy="4419720"/>
        </p:xfrm>
        <a:graphic>
          <a:graphicData uri="http://schemas.openxmlformats.org/drawingml/2006/table">
            <a:tbl>
              <a:tblPr/>
              <a:tblGrid>
                <a:gridCol w="1835280"/>
                <a:gridCol w="1776240"/>
                <a:gridCol w="1773360"/>
                <a:gridCol w="1854000"/>
              </a:tblGrid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pgrading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3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Home 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95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 from Windows XP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ack up data files firs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 from Windows Vista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pgrade installation if installing an equivalent or higher edition of Windows 7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m installation if installing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lesser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version of Windows 7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different 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bit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version (32- vs. 64-bit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different language than the current vers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 from Other Operating System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Going from an old edition of Windows (Windows 95 or Windows 2000) to Windows 7 requires full version of Windows 7 and a 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not 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pgrade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from a non-Windows operating system such as UNIX, Linux, or Mac O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Objectiv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1680" y="1752480"/>
          <a:ext cx="8001000" cy="4191120"/>
        </p:xfrm>
        <a:graphic>
          <a:graphicData uri="http://schemas.openxmlformats.org/drawingml/2006/table">
            <a:tbl>
              <a:tblPr/>
              <a:tblGrid>
                <a:gridCol w="3146400"/>
                <a:gridCol w="3063600"/>
                <a:gridCol w="1791000"/>
              </a:tblGrid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bjective Domain 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chnology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System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System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Upgrade Paths from Windows XP, Windows Vista, and Other Operat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Upgrade Paths from Windows XP, Windows Vista, and Other Operat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ing Windows 7 Upgrade Ad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ing Windows 7 Upgrade Ad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Application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Application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Product Identification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Product Identification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Removable Media Installations (DVD, ZTI, LTI, and US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Removable Media Installations (DVD, ZTI, LTI, and US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Cloud and Network Instal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Cloud and Network Instal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Anytime Upgrade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905120"/>
          <a:ext cx="7696080" cy="3308400"/>
        </p:xfrm>
        <a:graphic>
          <a:graphicData uri="http://schemas.openxmlformats.org/drawingml/2006/table">
            <a:tbl>
              <a:tblPr/>
              <a:tblGrid>
                <a:gridCol w="1950840"/>
                <a:gridCol w="1887480"/>
                <a:gridCol w="1886040"/>
                <a:gridCol w="197172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pgrade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462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St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you determin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If your computer can run Windows 7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hich editions and features will work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hether your computer has any compatibility issue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206360" y="1676520"/>
            <a:ext cx="671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pplication Compatibilit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erating system upgrades can result in one or more programs not working properly or not working at a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indows 7 Compatibility Center onl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indows 7 Application Compatibility List for IT Professionals: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http://www.microsoft.com/download/en/details.aspx?id=239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Windows 7 Compatibility Center Web Sit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9" name="Content Placeholder 2" descr=""/>
          <p:cNvPicPr/>
          <p:nvPr/>
        </p:nvPicPr>
        <p:blipFill>
          <a:blip r:embed="rId1"/>
          <a:stretch/>
        </p:blipFill>
        <p:spPr>
          <a:xfrm>
            <a:off x="1828800" y="1641600"/>
            <a:ext cx="55944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oduct Identification Key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unique, alphanumeric code required by many software programs during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avoid illegal product installat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roduct key you enter during Windows 7 installation is checked by Microsoft for legitimacy and whether it is already being used on a different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milar to xxxxx-xxxxx-xxxxx-xxxxx-xxxxx but is composed of letters and numb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oduct Identification Key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ually located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 the installation disc holder inside the Windows packag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 a sticker on the back or bottom of your computer if the operating system came pre-installed on the compute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In a confirmation e-mail if you purchased and downloaded Windows 7 onl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ctivation and Registration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ctivation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verifies that a copy of Windows i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Genu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ot in use on other computers than the number for which is license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ctivation is required within 30 days of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gistr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optional; enables you to sign up for technical support and receive other benefits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Installation Typ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igh Touch Installation (HTI)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ite Touch Installation (LTI)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Zero Touch Installation (ZTI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is a desktop operating system that improves on many aspects of its direct predecessors, Windows Vista and Windows XP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cludes several new features, such as large and animated task thumbnails, homegroups, Jump Lists, libraries, and Windows XP Mo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High Touch Installation (HTI)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include retail media or a standard image (ISO file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an installation DVD or USB drive and manual installation of operating system on every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manual configuration of each syste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High Touch Installation (HTI)—Steps for Larger Environment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stall Windows 7 on a clean hard disk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nfigure it with settings that apply to all computer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the Sysprep utility to create an image of the installation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oot to the Windows Preinstallation Environment (WinPE) and use ImageX to save the image to media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stall image on remaining computer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Lite Touch Installation (LTI)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some human intervention in the early phase of the installation but is automated (or unattended) from that point 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orks well in environments with more than 150 compu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need the Windows AIK, Windows Deployment Services, and the Microsoft Deployment Toolki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Zero Touch Installation (ZTI)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ully automated, 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ouchless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method of installing Window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System Center Configuration Manager (SCCM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Deploys and updates servers, client computers, and all kinds of devices on a network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Zero Touch Installation (ZTI)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Geared for environments with more than 500 compu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volves a fairly steep learning cur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a considerable budget compared to HTI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Easy Transfe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you move files and settings from one computer running Windows to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ove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can occur on the same computer if you’re upgrading to a different version of Windows that requires a 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a MIG file for files and setting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not transfer programs—you need original installation media to manually install them in Windows 7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Easy Transfe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1" name="Content Placeholder 2" descr=""/>
          <p:cNvPicPr/>
          <p:nvPr/>
        </p:nvPicPr>
        <p:blipFill>
          <a:blip r:embed="rId1"/>
          <a:stretch/>
        </p:blipFill>
        <p:spPr>
          <a:xfrm>
            <a:off x="1614600" y="1647720"/>
            <a:ext cx="5914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six main editions of Windows 7 are Starter, Home Basic, Home Premium, Professional, Ultimate, and Enterpris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mmon computer architectures are 32-bit and 64-bi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7 Upgrade Advisor helps you determine if your computer can run Windows 7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upgrade path you must take from Windows Vista to Windows 7 depends on key factors, mainly your current operating system and the edition of Windows 7 you want to run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three main types of Windows 7 installation methods are High Touch Installation (HTI), Lite Touch Installation (LTI), and Zero Touch Installation (ZTI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Easy Transfer helps you move files and settings from one computer to another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Star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Basic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Premiu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Professiona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Enterpri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Ultimat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Premium, Professional, and Ultimate are widely available in the retail sector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ther Windows 7 editions are designed for certain types of computers or markets, or specifically for enterprise us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676520"/>
          <a:ext cx="7772400" cy="4687920"/>
        </p:xfrm>
        <a:graphic>
          <a:graphicData uri="http://schemas.openxmlformats.org/drawingml/2006/table">
            <a:tbl>
              <a:tblPr/>
              <a:tblGrid>
                <a:gridCol w="2819160"/>
                <a:gridCol w="1752840"/>
                <a:gridCol w="1600200"/>
                <a:gridCol w="160020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Fe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me Prem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rofes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lt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ero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Media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ackup and Re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Anytime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ack up to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ocation-aware 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Remote Desktop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ncrypting Fil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XP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 for joining 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itLocker and AppLoc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2-bit and 64-bit refer to the way a computer's central processing unit (CPU) processes dat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4-bit computer can use more random access memory (RAM) than 32-bit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erating systems come in 32-bit and 64-bit vers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Must match the correct operating system to the computer processo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nterprise environment with mix of 32-bit and 64-bit systems need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Both types of drivers for networked printers, scanners, projectors, and other shared device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Multiple images—at least one image for the 32-bit computers and one for the 64-bit computer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95280" y="1697040"/>
            <a:ext cx="6743880" cy="4565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048120" y="5573880"/>
            <a:ext cx="4813200" cy="22860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>Cat Skintik</dc:creator>
  <dc:description/>
  <dc:language>en-US</dc:language>
  <cp:lastModifiedBy>Michael Khalil</cp:lastModifiedBy>
  <dcterms:modified xsi:type="dcterms:W3CDTF">2013-08-25T13:16:49Z</dcterms:modified>
  <cp:revision>326</cp:revision>
  <dc:subject/>
  <dc:title>Slide 1</dc:title>
</cp:coreProperties>
</file>